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ickey.wav" ContentType="audio/x-wav"/>
  <Override PartName="/ppt/media/image5.png" ContentType="image/png"/>
  <Override PartName="/ppt/media/CARBRAKE.WAV" ContentType="audio/x-wav"/>
  <Override PartName="/ppt/media/DRIVEBY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APPLAUSE.WAV" ContentType="audio/x-wav"/>
  <Override PartName="/ppt/media/DRUMROLL.WAV" ContentType="audio/x-wav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371-70D3-4D44-82F3-C1E57D17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EA5-6580-4D13-A99E-A0755E4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D58-B608-41F3-9D8F-937304CD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3C7-49AA-4A67-9705-F0C0163E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3AF-85C3-4A57-96FE-F9DC373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E7E-6C71-42B4-834C-8EFA6AF4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D39-B53C-4925-98AC-5E5E54C0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20D-AF45-4D56-9903-FACA972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5F3-E186-46D7-9FD1-495150D6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3F5-81FF-47FE-9DAA-F9FAD0D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EA7-FA73-48B2-8170-88E2425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F0E-63DE-4971-8AC9-160B448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ED29-DA60-4591-808C-0CB2626BC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micke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219320" y="2438280"/>
            <a:ext cx="7315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Flying Through Quotation Mark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7621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stroorbiter"/>
          <p:cNvPicPr/>
          <p:nvPr/>
        </p:nvPicPr>
        <p:blipFill>
          <a:blip r:embed="rId1"/>
          <a:stretch/>
        </p:blipFill>
        <p:spPr>
          <a:xfrm>
            <a:off x="380880" y="228600"/>
            <a:ext cx="3784680" cy="28195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>
            <a:hlinkClick r:id="" action="ppaction://hlinkshowjump?jump=nextslide"/>
          </p:cNvPr>
          <p:cNvSpPr/>
          <p:nvPr/>
        </p:nvSpPr>
        <p:spPr>
          <a:xfrm>
            <a:off x="7848720" y="5943600"/>
            <a:ext cx="890640" cy="585720"/>
          </a:xfrm>
          <a:custGeom>
            <a:avLst/>
            <a:gdLst>
              <a:gd name="textAreaLeft" fmla="*/ 37800 w 890640"/>
              <a:gd name="textAreaRight" fmla="*/ 852840 w 8906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2838" h="21600">
                <a:moveTo>
                  <a:pt x="0" y="0"/>
                </a:moveTo>
                <a:lnTo>
                  <a:pt x="32838" y="0"/>
                </a:lnTo>
                <a:lnTo>
                  <a:pt x="32838" y="21600"/>
                </a:lnTo>
                <a:lnTo>
                  <a:pt x="0" y="21600"/>
                </a:lnTo>
                <a:close/>
              </a:path>
              <a:path fill="lightenLess" w="32838" h="21600">
                <a:moveTo>
                  <a:pt x="0" y="0"/>
                </a:moveTo>
                <a:lnTo>
                  <a:pt x="32838" y="0"/>
                </a:lnTo>
                <a:lnTo>
                  <a:pt x="31438" y="1400"/>
                </a:lnTo>
                <a:lnTo>
                  <a:pt x="1400" y="1400"/>
                </a:lnTo>
                <a:close/>
              </a:path>
              <a:path fill="darken" w="32838" h="21600">
                <a:moveTo>
                  <a:pt x="32838" y="0"/>
                </a:moveTo>
                <a:lnTo>
                  <a:pt x="32838" y="21600"/>
                </a:lnTo>
                <a:lnTo>
                  <a:pt x="31438" y="20200"/>
                </a:lnTo>
                <a:lnTo>
                  <a:pt x="31438" y="1400"/>
                </a:lnTo>
                <a:close/>
              </a:path>
              <a:path fill="darkenLess" w="32838" h="21600">
                <a:moveTo>
                  <a:pt x="32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38" y="20200"/>
                </a:lnTo>
                <a:close/>
              </a:path>
              <a:path fill="lighten" w="32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38" h="21600">
                <a:moveTo>
                  <a:pt x="9412" y="3794"/>
                </a:moveTo>
                <a:lnTo>
                  <a:pt x="23425" y="10800"/>
                </a:lnTo>
                <a:lnTo>
                  <a:pt x="9412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3526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Peggy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ungleCruiseMH"/>
          <p:cNvPicPr/>
          <p:nvPr/>
        </p:nvPicPr>
        <p:blipFill>
          <a:blip r:embed="rId1"/>
          <a:stretch/>
        </p:blipFill>
        <p:spPr>
          <a:xfrm>
            <a:off x="685800" y="60948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715000" y="533520"/>
            <a:ext cx="2971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 marks are used to show someone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62120" y="41911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ildren said excitedly, “Let’s ride on the Jungle Cruise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7772400" y="5867280"/>
            <a:ext cx="966960" cy="662040"/>
          </a:xfrm>
          <a:custGeom>
            <a:avLst/>
            <a:gdLst>
              <a:gd name="textAreaLeft" fmla="*/ 42840 w 966960"/>
              <a:gd name="textAreaRight" fmla="*/ 924120 w 9669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1543" h="21600">
                <a:moveTo>
                  <a:pt x="0" y="0"/>
                </a:moveTo>
                <a:lnTo>
                  <a:pt x="31543" y="0"/>
                </a:lnTo>
                <a:lnTo>
                  <a:pt x="31543" y="21600"/>
                </a:lnTo>
                <a:lnTo>
                  <a:pt x="0" y="21600"/>
                </a:lnTo>
                <a:close/>
              </a:path>
              <a:path fill="lightenLess" w="31543" h="21600">
                <a:moveTo>
                  <a:pt x="0" y="0"/>
                </a:moveTo>
                <a:lnTo>
                  <a:pt x="31543" y="0"/>
                </a:lnTo>
                <a:lnTo>
                  <a:pt x="30143" y="1400"/>
                </a:lnTo>
                <a:lnTo>
                  <a:pt x="1400" y="1400"/>
                </a:lnTo>
                <a:close/>
              </a:path>
              <a:path fill="darken" w="31543" h="21600">
                <a:moveTo>
                  <a:pt x="31543" y="0"/>
                </a:moveTo>
                <a:lnTo>
                  <a:pt x="31543" y="21600"/>
                </a:lnTo>
                <a:lnTo>
                  <a:pt x="30143" y="20200"/>
                </a:lnTo>
                <a:lnTo>
                  <a:pt x="30143" y="1400"/>
                </a:lnTo>
                <a:close/>
              </a:path>
              <a:path fill="darkenLess" w="31543" h="21600">
                <a:moveTo>
                  <a:pt x="31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3" y="20200"/>
                </a:lnTo>
                <a:close/>
              </a:path>
              <a:path fill="lighten" w="31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3" h="21600">
                <a:moveTo>
                  <a:pt x="8765" y="3794"/>
                </a:moveTo>
                <a:lnTo>
                  <a:pt x="22778" y="10800"/>
                </a:lnTo>
                <a:lnTo>
                  <a:pt x="876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ickeyToontownMH"/>
          <p:cNvPicPr/>
          <p:nvPr/>
        </p:nvPicPr>
        <p:blipFill>
          <a:blip r:embed="rId1"/>
          <a:stretch/>
        </p:blipFill>
        <p:spPr>
          <a:xfrm>
            <a:off x="1828800" y="3657600"/>
            <a:ext cx="533412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143000" y="990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Place a comma after the word that lets you know the person is saying some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57200" y="2438280"/>
            <a:ext cx="815328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ickey said happily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“Come visit Disney World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848720" y="601992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2362320" y="228600"/>
            <a:ext cx="399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Quotation Mark Ru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c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arade"/>
          <p:cNvPicPr/>
          <p:nvPr/>
        </p:nvPicPr>
        <p:blipFill>
          <a:blip r:embed="rId1"/>
          <a:stretch/>
        </p:blipFill>
        <p:spPr>
          <a:xfrm>
            <a:off x="1447920" y="3683160"/>
            <a:ext cx="5589360" cy="3174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33520" y="30492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2)  Insert quotation mark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irst word of the person’s exact words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unctuation mark at the end of the person’s las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4400" y="2514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rowd exclaimed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 wonderful parade!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30492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3) Capitalize the first word of the person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SpaceMountainMH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124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838080" y="50292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itlyn screamed, “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ofy, this is a blast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>
            <a:hlinkClick r:id="" action="ppaction://hlinkshowjump?jump=nextslide"/>
          </p:cNvPr>
          <p:cNvSpPr/>
          <p:nvPr/>
        </p:nvSpPr>
        <p:spPr>
          <a:xfrm>
            <a:off x="8077320" y="5943600"/>
            <a:ext cx="738000" cy="585720"/>
          </a:xfrm>
          <a:custGeom>
            <a:avLst/>
            <a:gdLst>
              <a:gd name="textAreaLeft" fmla="*/ 37800 w 738000"/>
              <a:gd name="textAreaRight" fmla="*/ 700200 w 738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12" h="21600">
                <a:moveTo>
                  <a:pt x="0" y="0"/>
                </a:moveTo>
                <a:lnTo>
                  <a:pt x="27212" y="0"/>
                </a:lnTo>
                <a:lnTo>
                  <a:pt x="27212" y="21600"/>
                </a:lnTo>
                <a:lnTo>
                  <a:pt x="0" y="21600"/>
                </a:lnTo>
                <a:close/>
              </a:path>
              <a:path fill="lightenLess" w="27212" h="21600">
                <a:moveTo>
                  <a:pt x="0" y="0"/>
                </a:moveTo>
                <a:lnTo>
                  <a:pt x="27212" y="0"/>
                </a:lnTo>
                <a:lnTo>
                  <a:pt x="25812" y="1400"/>
                </a:lnTo>
                <a:lnTo>
                  <a:pt x="1400" y="1400"/>
                </a:lnTo>
                <a:close/>
              </a:path>
              <a:path fill="darken" w="27212" h="21600">
                <a:moveTo>
                  <a:pt x="27212" y="0"/>
                </a:moveTo>
                <a:lnTo>
                  <a:pt x="27212" y="21600"/>
                </a:lnTo>
                <a:lnTo>
                  <a:pt x="25812" y="20200"/>
                </a:lnTo>
                <a:lnTo>
                  <a:pt x="25812" y="1400"/>
                </a:lnTo>
                <a:close/>
              </a:path>
              <a:path fill="darkenLess" w="27212" h="21600">
                <a:moveTo>
                  <a:pt x="2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12" y="20200"/>
                </a:lnTo>
                <a:close/>
              </a:path>
              <a:path fill="lighten" w="2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12" h="21600">
                <a:moveTo>
                  <a:pt x="6600" y="3794"/>
                </a:moveTo>
                <a:lnTo>
                  <a:pt x="20613" y="10800"/>
                </a:lnTo>
                <a:lnTo>
                  <a:pt x="6600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DRIVEB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g_mickey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533520" y="380880"/>
            <a:ext cx="3047760" cy="3810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886200" y="76212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find the mistakes in Mickey’s quo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5800" y="4572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Rockwell Extra Bold"/>
              </a:rPr>
              <a:t>Mickey said, Come see me at Disney World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ireworks"/>
          <p:cNvPicPr/>
          <p:nvPr/>
        </p:nvPicPr>
        <p:blipFill>
          <a:blip r:embed="rId1"/>
          <a:stretch/>
        </p:blipFill>
        <p:spPr>
          <a:xfrm>
            <a:off x="3429000" y="2133720"/>
            <a:ext cx="5437080" cy="443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33520" y="380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ickey said,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Come see me at Disney Worl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9480" y="281952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Yeah, great job, you did it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7:36:42Z</dcterms:created>
  <dc:creator>Pre-Installed-User</dc:creator>
  <dc:description/>
  <dc:language>en-US</dc:language>
  <cp:lastModifiedBy>Teacher</cp:lastModifiedBy>
  <dcterms:modified xsi:type="dcterms:W3CDTF">2012-03-25T21:31:24Z</dcterms:modified>
  <cp:revision>4</cp:revision>
  <dc:subject/>
  <dc:title>No Slide Title</dc:title>
</cp:coreProperties>
</file>